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77B-EBF8-448E-A67A-9B1152B4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ECA-02CC-4242-B23C-2F8E47B7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EBC-2797-4092-9DAF-8E87E4A70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499F-0E21-40A5-8040-CCFF1FC2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3CED-9317-4359-871C-F729403D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F0DC-17AC-49CE-BE52-37FCF8A8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240B-7458-4E2D-82C4-0A0568F0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CECB-A965-40FB-BA6E-A6C19EEE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E543-372C-4145-B467-026AE02A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092E-0B9F-4087-8E9A-3BF1CEF3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E4DC-EAE5-4F88-8E85-040C01E1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A82B-0093-4E86-898D-32565BD11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CAF8-C348-4F4F-8E22-737E2E33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D5B6-EA31-4A59-8835-0E917218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2DE1-1499-468F-BC0C-3D03CD4A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79A9-3DF0-4561-9B93-69560185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C82-A17A-4824-B7E0-0FCA1695D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D701-8C2A-48C3-956F-E7006213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274C-CDB1-4068-B3D7-5FEE5114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85E-840C-4E27-963E-CCC14309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D536-9B26-4E9F-9A78-C38E448B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11C-FB6B-461F-87EE-F7B66B4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B73-EB94-4911-92EF-5FCFE625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68CC-170C-44F7-B100-554FFBD1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3998-4937-4465-A995-95DEF0960DC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0E66-108F-48B7-ABCE-780952A909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aboratori territoriali per raccordo domanda offerta di formazione e lavoro – Fondo di perequazione 2006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EE13-ACD3-4D16-947C-F24CEB37A4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consolidare il ruolo delle C.C.I.A.A. nella promozione della modalità didattica dell’alternanza scuola-lavoro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C926-1AFC-4099-B9CF-F2218BF376A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zione c) Sviluppo dei percorsi di alternanza scuola-lavoro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18 progetti di alternanza scuola-lavoro (2 per provinci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3 corsi di “formazione Formatori” Tutor Alternanza S-L di 5 moduli ciascu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4 giornate formative per gli operatori camerali – argomenti da approfondire: Poli Tecnici, Alternanza scuola-lavoro, Orientamento professionale e scolastico, Osservatorio Imprese, Sportello Polaris, Laboratori Territoriali, Sistema informativo Excelsior; implementazione del piano operativo – fondo di perequazione 2006 a sostegno delle azioni previst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75BF-B781-4791-A317-71FC42AD22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Camere di commercio dell’Emilia-Romagna, sulla base del ruolo acquisito attraverso lo sviluppo del Sistema informativo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Excelsior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e l’attivazione dei percorsi di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alternanza scuola-lavor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, mirano a svolgere sul territorio provinciale una funzione rilevante per favorire e fluidificare le dinamiche d’incontro tra domanda e offerta di formazione e lavor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a) attivazione di Laboratori territoriali permanenti (o Comitati territoriali) per l’incontro domanda-offerta di formazione e lavoro, formazione continu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b) supporto all’orientamento formativo e professionale per favorire le scelte degli studenti e delle persone in cerca d’occupazione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) Sviluppo dei percorsi di alternanza scuola-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ECF8-BE4D-4DDF-8D4A-A9D92B3A51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r emergere i fabbisogni di professionalità e le competenze necessarie per lo sviluppo della competitività delle imprese; migliorare la capacità di risposta dei vari sistemi formativi (scuola, università, formazione professionale e formazione continua) ai fabbisogni espressi dalle impre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F49E-FD85-4470-AEAC-B0A6292C33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Attività previst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Analisi e documentazione territoriale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 (analisi sui fabbisogni di profili professionali delle aziende nei settori produttivi– DATI EXCELSIOR - individuati con le  C.C.I.A.A., con  identificazione e selezione dei profili-chiave; descrizione dei profili-chiave in termini di attività; identificazione e descrizione delle competenze chiave necessarie per svolgere le stesse attività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Focus group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, con 2 moderatori e 5/6 rappresentanti degli universi professionali aziendali maggiormente rappresentativi del territorio per f.g., per valutare le analisi di cui al punto 1 e fare proposte per focalizzare i loro fabbisog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Interviste in profondità</a:t>
            </a: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: rivolte a specialisti della formazione nei settori di indagine a livello territoria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0B56-6B71-480E-9896-E8C60251A9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Laboratori territoriali permanenti per l’incontro domanda-offerta di formazione e 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3366"/>
                </a:solidFill>
                <a:latin typeface="Arial"/>
              </a:rPr>
              <a:t>RISULTATI  ATTES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 Schematizzazione dati Excelsior per il sostegno alla programmazione formativa e aziendale presso istituzioni e imprese; 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sistematizzazione delle indicazioni emerse nei focus group e confronto con i dati di analisi della fase 1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-  articolazione e proposta al tavolo delle partnership provinciali di un menù formativo per unità didattiche da sviluppare nelle aziende o nei settori coinvolti nei Laboratori Formativi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9 Report di ricerca, 1 per ogni Laboratorio provinci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1 Report integrativo e sintetico sull’insieme dei Laboratori Territoriali condott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DEF-8528-46BD-91D2-05FEFA5FAD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Scopo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favorire la maturazione di scelte personali e professionali soddisfacenti per la persona e realizzabili nei contesti socio-economici di riferimento, con particolare attenzione alle tecniche di ricerca attiva dell’inserimento lavorativo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3E5C-A637-4816-AC68-96BA64DD9E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;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ttività previ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5 incontri orientativi misti di primo livello per ciascuna Camera di commercio rivolti a un’utenza interessata ad incontrare il mondo delle aziende locali e conoscere le tipologie di competenze professionali maggiormente richieste dalle impres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omozione a livello locale sfruttando tutti i canali di comunicazione a disposizione del sistema camerale (sito web, newsletter, circolari informative, pubblicità sui giornali locali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4ED-B494-41E8-9FC3-6F6E4E7834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pologia di incontr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Accoglienz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Sessioni Informative su presentazione della rete Camerale  e dei servizi che offre, analisi del mercato del lavoro e delle profession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escrizione della struttura e degli obiettivi dei percorsi finanziati di “Formazione Alta e Superiore” e di “Istruzione e Formazione Tecnico Superiore” (IFTS), illustrando nello specifico gli eventuali corsi che al momento sono stati approvati e ai quali è possibile iscriversi; le proposte di Alta Formazione post-laurea: i Mast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cniche di ricerca attiva di lavor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irocinio Formativo o Orient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rvizi camerali a sostegno dell’inserimento lavorativ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lloqui individuali conoscitivi e di orientamento personalizzato su richiest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120-77AA-4106-BE4F-F4901F93E1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ll’orientamento formativo e professionale per favorire le scelte degli studenti e delle persone in cerca d’occupazione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900" spc="-1" strike="noStrike">
                <a:solidFill>
                  <a:srgbClr val="003366"/>
                </a:solidFill>
                <a:latin typeface="Arial"/>
              </a:rPr>
              <a:t>Esperienze pregresse di seminari di primo orientament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’attuale situazione del mercato del lavoro (ci focalizzeremo in particolare sulla regione Emilia Romagna) degli strumenti e delle modalità per entrare nel mondo del lavoro,  dei profili professionali maggiormente richies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enni sulle tecniche di ricerca attiva del lavoro (come compilare un curriculum, come affrontare un colloquio di selezione, come rispondere ad un annuncio ecc) - approfondimenti offerti anche dal sistema camerale (Ad es.al Job Club, un servizio individualizzato che supporta l’utente in un breve percorso di orientamento finalizzato alla ricerca attiva del lavor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irocinio come esperienza professionalizzante: differenza tra stage e tirocinio formativo, potenzialità dello strumento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sentazione delle offerte della settimana (profili professionali richiesti dalle aziende per il tirocinio, eventuale focus su corsi in partenza, ecc.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olloquio conoscitivo / orientativo (al termine dell’incontro informativ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6BC-F47C-4CBF-9551-924E371847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5:43:08Z</dcterms:modified>
  <cp:revision>6</cp:revision>
  <dc:subject/>
  <dc:title>Laboratori territoriali per raccordo domanda offerta di formazione e lavoro – Fondo di perequazione 2006</dc:title>
</cp:coreProperties>
</file>